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es reforms--glasnost and perestro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D67-BB26-4F2C-ADEB-7346A228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8AD-44A1-46FD-ABF5-361053ED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89F-7533-4133-B2C1-E9AFF6D3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BC1-1C82-42BC-BBC5-004F9D50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B9E1-D98F-4EEF-A55A-4C5D8EC1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D81F-4409-47BB-9B8B-89107AB5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3C9-A881-4332-A80E-081D44D9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0B9-D00A-47AB-88A0-4659A031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6D2-A6E5-4808-998A-E680ABA7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B64-23C9-4D4C-A601-724149FE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579E-F1B1-48AE-B3FB-E313AA97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49B-741D-4579-8065-1EE9EB0F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4F3C-1B5C-4B65-8A71-AD8F81C5D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981600" y="3429000"/>
            <a:ext cx="1482480" cy="2200320"/>
          </a:xfrm>
          <a:prstGeom prst="rect">
            <a:avLst/>
          </a:prstGeom>
          <a:ln w="0">
            <a:noFill/>
          </a:ln>
        </p:spPr>
      </p:pic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47640" y="4002120"/>
            <a:ext cx="2019240" cy="2550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49800" y="4191120"/>
            <a:ext cx="3092760" cy="235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3124080" y="4656240"/>
            <a:ext cx="2362320" cy="143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4"/>
          <a:stretch/>
        </p:blipFill>
        <p:spPr>
          <a:xfrm>
            <a:off x="6880320" y="1500120"/>
            <a:ext cx="2111400" cy="25844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76960" y="5057640"/>
            <a:ext cx="2371680" cy="17622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199120" y="4352760"/>
            <a:ext cx="3487680" cy="2300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09560" y="2895480"/>
            <a:ext cx="2637000" cy="3305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s reforms-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lasn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estro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886360" y="4762440"/>
            <a:ext cx="208620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629400" y="4232160"/>
            <a:ext cx="2205000" cy="2502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57680" y="5334120"/>
            <a:ext cx="2214720" cy="1461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017800" y="1981080"/>
            <a:ext cx="5099040" cy="41054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72280" y="5334120"/>
            <a:ext cx="2095200" cy="13968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38960" y="4314960"/>
            <a:ext cx="2200320" cy="141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619360" y="3962520"/>
            <a:ext cx="3181320" cy="244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590400" y="440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33200" y="4129200"/>
            <a:ext cx="4753080" cy="2705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6172200" y="4667400"/>
            <a:ext cx="2733840" cy="17809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796080" y="4776840"/>
            <a:ext cx="22478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695680" y="4419720"/>
            <a:ext cx="2371680" cy="16668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862440" y="5019840"/>
            <a:ext cx="2309760" cy="15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7569360" y="4419720"/>
            <a:ext cx="1573200" cy="243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530360" y="1981080"/>
            <a:ext cx="6073920" cy="4105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01:03:13Z</dcterms:created>
  <dc:creator>Jeff</dc:creator>
  <dc:description/>
  <dc:language>en-US</dc:language>
  <cp:lastModifiedBy>Legion</cp:lastModifiedBy>
  <dcterms:modified xsi:type="dcterms:W3CDTF">2017-07-05T08:45:55Z</dcterms:modified>
  <cp:revision>22</cp:revision>
  <dc:subject/>
  <dc:title>Communism and the Cold War</dc:title>
</cp:coreProperties>
</file>